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611-A152-4A35-8736-7A02E9AC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2FE-5A38-4173-AB1A-62E9A98E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A2506-0300-4EA7-ACB4-AB3C8F98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50B89-052D-4C3F-AC14-7EC7D3B9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E699A-EEAC-46EF-A2B0-7C3C1E63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FBBD5-141B-4449-99FA-6FDA84FA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8659C-DE51-47F5-B390-ECCE9FB9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56AFB-E5E3-494E-A373-705D95B4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47179-13B6-4551-899F-8E265DA6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4766A-CC8A-4452-A6B0-4E3F3525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C5682-6AF5-4157-BA72-4B1C1DB6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04B9B-0406-445B-85D3-B52D62F1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41E-5B95-44C5-A89E-78554626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59BDF-1129-485F-9DBC-C7812A64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DCA02-1BF1-4768-858A-B6085E09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A58C1-967F-42D6-BECB-0F5EF3FF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60D7F-29B8-4ABB-BE32-A117ED3D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BCE31-69A4-4B8C-9100-8D462227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CE625-3BF6-4FE1-A98C-6D809F9D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31492-F22B-4954-8C84-CDB2EB49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39ACD-3183-4A3D-AB6C-E640E9EC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E94F1-E076-4E24-BBB2-09ECD83F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AE64F-C78B-4C1E-A8F3-5E4BC89E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B03-F340-475C-BE4F-C328A450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90050-4F98-4A54-A924-0653B482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88379-7E73-4BAC-8B09-19AF3B4D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38126-ABAC-4883-82FD-403B6447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E90EF-14E2-4C3F-85A0-32C7B56B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1E927-2BE3-4D81-B55D-37F4C171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DEE42-47C0-4D34-8839-F939CC18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27B77-4758-415F-BEA5-28912E3D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D201F-8E8E-4A35-803F-943A9DD5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AD830-EF36-4851-8445-93D89360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93374-C2DB-44F3-92EA-21A5134B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FA59-FA0E-40CC-B2A3-7A83B68C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95188-D2C4-40CF-938E-7481104F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48322-F014-41E5-9558-9B85114D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A9B29-768C-4235-B26A-2D7DBC8D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5784D-71E4-4742-9A8C-A4386310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BC67C-67A3-40B4-87FD-ECA95FC7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4D235-23E5-47F9-92A3-57BAB14B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6E2B9-0B59-4391-BEB1-9073A3A1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CF311-9314-4686-82A0-B2C69120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25310-F205-4A6B-A213-54A24824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FAA7A-3233-467C-BDDB-A197D363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B331-3C78-4CBD-BCCB-322135DB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0276F-6E73-45D0-812A-F4F4A4A2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B4A75-2A2C-4F5B-B44F-FD1B96DE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27A7C-7322-4611-BA4D-36EBE4B6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39FE3-D56E-463A-AFD4-6CEF7215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3800E-E9A6-4221-B903-8B2BFEE9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59D8B-D80B-4C96-9012-A9370573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5210B-59CA-47A3-A64E-B9DE1A76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18723-B1F5-45B4-B436-7DBFE6BF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A20BB-6036-4A19-A7A7-3923263B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260FE-7451-4B48-A5CB-67EDA306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8F02-B6DE-4ED1-82B3-A24D1339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1E8F9-27F1-43DE-8BF0-33C23F13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328F32-F5EA-4C1A-A020-349CB565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B415F-CD54-4B99-A2CD-E8CC2957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C67B4-E3B2-45D9-B8E1-2F0A66FA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D8F1B-01C0-475D-A513-27476BD6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E47B5-0F7C-4E0E-B1E6-6C6F0CF3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7EC714-AEAE-4FB3-9D53-1333164A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34D1EB-1FC8-4E5A-835B-BEA65C96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72B849-0F56-4893-99AF-3573F3B3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29A83-B02E-4415-94EF-B48C6D98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46D7-44BF-4B46-8F77-3C017042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3FEA5-1DD2-43DE-A596-C1F3AD05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7C5CAB-D3F4-4A57-8198-FBDD9B81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B321A-8C5B-485B-8018-28AA3C33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BC725D-1052-4096-8ADB-711879E4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CD8D28-199E-4F84-A25B-51A06F48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1308B-3989-4DD6-8575-1A5D941C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7FFBED-E358-4331-BE6F-B8F4D7ED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78CE2E-A07D-41B9-AEEC-929D1D6A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C38DE-7AE6-4574-A849-2902EA64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413C16-DA4D-4082-839A-62D2707F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98B9-8DC5-4B26-86D1-191A0BCE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90452D-B4E9-498B-A317-06458830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2DB30D-F318-457D-8592-D6C507FF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A30604-C32A-4ABD-BF07-8AFD0740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A9E558-4F01-4E9A-A0F7-8FCB91D5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13A4E4-DD5D-4098-A2FB-29049C39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41D2CD-C8DB-4670-9EC2-43B686FC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B00A3B-0DB8-4CE6-A0D7-A8ED4F98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C2A0D0-AD98-453C-8BD5-64E0C784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9531F1-609A-410E-B44F-23A6ED23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1EB169-5384-4360-93DB-DAA0B1B4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56CD-ECE2-408B-B00E-1E6F6A9B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B3D50D-7657-494A-8588-18B123C6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203DD1-3EC6-4E11-9105-E8DA1C4D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3A00FA-DB8C-4756-9ABD-AAECA174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36AE9A-3256-4CEC-918E-E966A90B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CA85E0-944E-4066-9412-053B5606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D7F298-A888-40AB-8B8C-FCC9FC9F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6A6F3B-D35D-4840-B54E-1BA70BAD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7358F6-53B4-4C02-BF57-DC9CACD6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18B047-D2F2-4804-BA44-D6A58239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B6453D-5C99-48A6-BB3C-58272E54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3365-18A8-4909-9606-5BCEFCBA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BF23C-F832-4646-8F8B-BB2C0308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A36159-452D-4A58-ABD2-6C00CD56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E4F582-008A-4345-B4C2-B9611D38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3DBD9A-2A7B-4BEC-ACEC-DA614E7E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25CE0A-F362-4D7B-897D-657DA106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E6524F-5218-48DE-8ED4-84A19E84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CE449C-16DE-4718-8516-0338A959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AFBE6D-642B-4EBA-9D53-07459A77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5982F5-79DB-4AB5-9F56-80A45F31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AE2C72-0821-4B21-8597-0428CB10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DA8-2B68-4A47-B0F9-BA14C21F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F6AB-DD3E-4D83-A118-A45B3AEF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5EF1D8-ED81-4EED-85FE-A63E1202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B2B262-0CA3-474E-9B3B-EEC6CA45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201A2B-09EC-441F-AF2D-D0B2A289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B6F845-29A3-491B-8459-48454A3F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4DCCDE-F39C-4C98-BBBE-18969A52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B8836D-327B-4BA0-868F-D03105E3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EA615B-60C5-4161-B98D-B4E5EBE3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8A22B0-40FD-4032-B3E8-90279B45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53C617-40A5-43EC-B692-C16960F4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096ED9-540C-402F-87F2-54D96703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4652-5CC7-460B-9E78-F32F72E4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25C364-675F-4239-8581-1ACC8C7E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32C718-D84B-4AD3-B332-97E7B5C1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5B860F-E51E-442D-928A-EF09293B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E20314-F145-48B8-8EA5-6FF60948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E83DF2-FEC3-4198-8237-F045A857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3AAA6D-4712-46D9-B9DE-09D3834A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E1C919-983A-44D5-85AD-272AFAD2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3D5741-AA6F-43B7-AE9D-DF063971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AF3A91-EBD2-46AB-9478-6B10C3F3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E02B20-3BC1-42BF-B185-787419BB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6DA4-1F96-432B-B3A4-43A8F802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782336-A827-485B-81AB-B55D76FD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A74ECA-A47B-4B0E-BF96-A589E79A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79CA14-F844-4E18-86FF-7C3D31DC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D7CB60-D341-4670-A524-0BCF426A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F3F693-21DD-4152-8C46-69233D9D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C2B50A-5944-4534-BE72-5006DD05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E36E50-21AD-4061-82FA-607FF912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0E3043-A66D-4455-95FD-C99CF354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FBF2A5-987C-4F46-A394-D01E50F2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D90921-3E5E-4ECF-85B6-35EEF506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6804-9F41-46B8-8A86-4E3A4CFB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49DA8E-91F4-4E42-AB9F-D7379C21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AB3A86-B7E4-4666-99B5-0CC35C44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A14173-C321-4CAE-8779-74FE5DDF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F5819B-02BA-4557-AE1D-315315E4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309783-DD5D-46DF-B58D-6A29C599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EC4E1A-52C8-4781-A346-39796C6A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E677BD-621D-44C3-9AF9-B6F635A4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B87F4C-BF84-491F-874A-73A98FC0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70852F-1B28-4106-B7FE-AA35C6F8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5769DE-6EAE-40B2-828E-6A68D28B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CA74-BE41-4294-8461-733C3570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5348DE-3058-4CA6-9EE9-CF5F16F3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E8408-19FC-48F5-9103-2E9CA0E4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1EE64-BA7D-42EB-874C-A58842D1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0A26D-CAF7-47D9-91A1-8348ECAE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C9EF7-021E-45E4-93CA-422ADE9F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66CAB-C7FC-4268-956B-EF612D61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8ED1-D45F-4BFA-BFC1-7F0342E8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E2D66-143A-44DE-80F1-0F01ED04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50983-AFFC-43DB-B9C3-6337579B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B28E6-68C7-487A-A385-1063E8B4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BC5D7-DC44-4929-BF03-4D65FA1A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910B-2F81-4F6A-A008-63C2C53C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D5ED2-C5AE-4B10-B7BA-BEB0DA9E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CA396-A8BD-4500-8551-FBD3FDCF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9EE4F4-B338-4D85-B474-FADECA40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D43C87-640A-4F4D-903C-3CAD0311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4048FD-85EA-4223-8CFA-0E9B3A84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760C-3E4A-4C10-8577-5549AD85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72957E-7D7A-4AF2-A97D-89C74E61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C06B90-6B63-410B-97D3-66D41AFD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21C3FA-890A-4E81-BB2A-356A8293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46089-7271-426D-9EF1-61393BCC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89F2E8-3A0C-4F07-A101-D51CDA86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F9A192-478C-4DF9-83F8-BF5A36B2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9BD797-5A8E-483F-BD02-3D4B102C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B66B90-D036-4FF9-832F-402E3A66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BCB144-2483-4043-928D-45B1234F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32111-D243-4102-88F7-32761E5F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ECB-D94F-4A0A-9190-65A4E6B3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2B4E2-AD0F-4E46-AAF1-216F2B2D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7A614-3380-4CCA-BBC8-4AE912FE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3F75F-9810-4783-BC6B-A0A097F7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1024D-5E37-42FA-837B-47A4B334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4A3A3-1874-49F1-95EB-81BDCD19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4AD67-177E-47AE-8677-3A0CFF7B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12528-BB78-4EB8-A02F-157A6C92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FF93F-4BB5-49AE-BBF6-6FC298BF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E26CF-1A32-4177-B38D-C405FDC1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4922D-0B68-4E98-B5CB-7C1C1608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08CD-6266-4E30-90CB-43E948B6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01E12-4A93-439D-AB7D-7F51EDC6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093B7-A0CD-4221-BCDF-761A5E79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484D2-600A-4001-A28A-1A953762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08738-EEFD-4220-B9E3-059DE777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2F163-AD9D-4BBF-97C2-2B49FE06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0FD9C-FAA9-4E54-901E-147317A3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ADB81-65ED-49B7-AB5F-F06D8785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5595B-ED0A-4D83-9C4E-33CDFBC9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13AB2-3E44-46C7-B21C-B25D14BA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9FF8F-ADBE-4BEB-86B5-E6004CFD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6C1-03E3-4783-93FE-B675B9F5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BB122-EB79-43CA-808E-2FC647DA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E4EEE-EED1-4249-A7FB-833E5EA9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C56F8-9A10-4912-9467-0F4F9785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83840-287C-44E1-A9F4-094ACD8D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78B92-45DB-452C-92BA-B83A57F5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4BB6B-6692-49B5-8398-61589B9E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094D4-DB3C-4E34-9FD7-F0F67A31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4F514-149C-48C2-B727-9ABE7A18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D6C70-184E-4F2F-95BC-0496A3A5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4D0AB-4FF9-4660-A2F9-7FD4654E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8DB-736C-47EE-AB7A-63446955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84F64-ED70-462B-B0DC-8658BE77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F5C2A-8EA0-43EF-BBED-43C7EC33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E4C43-52B7-448D-8913-6CCFD74B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EDBEE-635C-4069-B875-5B8546D4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591B0-1ED2-4C6B-AB14-D27DEAD4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0B618-5DB1-4780-A2FC-D1AF32FB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7EE64-782B-4926-B997-0CB7A972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F14FC-EC33-46AB-9B77-B3C6BF01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72533-1DB0-4A7E-BDA5-69E2E0E2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0F937-89AD-4CFF-8B93-26013475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FC0-F145-49E5-AB87-19B40836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32011-5F25-4D5D-9E48-A7AC8C33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D8AC1-5647-4607-861D-B1DF21DB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D14CC-DF11-4D3C-8EA0-FD539CA3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860E6-DF9A-42DE-9E93-37011C69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8D67F-4A64-42D3-8A6D-3967F135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8101F-4AA7-4C7D-9DDB-C19BD979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DFE2B-2B62-4C3A-B9C1-61C125E9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EFC79-3249-4264-B22E-B1B34649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A1560-4F1C-457C-8FF9-67AA8D21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BEB94-7802-461A-931B-A2AE23EF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7C21-66F2-48B3-960D-A4DA1D426A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97C6-5F0B-4A92-BEED-9A8305F4A0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2D3F-25EA-42EC-B09A-5C30F53803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460B-2C7D-48EF-BCBA-336434D8B9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A88E-7CAA-40B0-8FCD-CA4431CFAB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CE91-3A15-4F5B-86EC-7B62AA7D33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6B74-697D-4C94-95E9-08E1459670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527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534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535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557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558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580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6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587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588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591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594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00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A2CD-E06F-4F49-9E9A-B3973B4606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412F-58B6-424D-82CD-BCB5A6DF1E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EE91-4C7D-4466-827A-FD3ABFADCA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A03A-7D7E-4504-AB08-45E97269F9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8945-7D52-4191-AE47-FC10E24F36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D075-99C9-4316-B176-EFB654066F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D91D-F286-4D28-BADE-622349BCA9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3AFC-CE73-4A4B-9E8F-D562E68FD0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E352-D2B0-44B5-ABAE-84B24B42A8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FB6D-1B45-470C-8CBF-48C24FA997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图片 9" descr=""/>
          <p:cNvPicPr/>
          <p:nvPr/>
        </p:nvPicPr>
        <p:blipFill>
          <a:blip r:embed="rId2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pic>
        <p:nvPicPr>
          <p:cNvPr id="827" name="组合 145" descr=""/>
          <p:cNvPicPr/>
          <p:nvPr/>
        </p:nvPicPr>
        <p:blipFill>
          <a:blip r:embed="rId3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828" name="组合 153" descr=""/>
          <p:cNvPicPr/>
          <p:nvPr/>
        </p:nvPicPr>
        <p:blipFill>
          <a:blip r:embed="rId4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7A4F-CBFF-468B-8904-AF25211AED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F6E9-0D66-4618-B74E-733C01F6CF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A0A0-D54C-4EB6-A903-15771917C1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51CA-9476-4B9F-AAA7-1B4200387F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5E1B-408D-4201-8140-7B364D0185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CBBC-ADDB-40A0-AA7B-04BFF63E7A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B880-CDAF-46C7-B31B-FDC1F1778C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4C32-2171-45FE-81E6-8C85E1CBB4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E554-DB46-456C-86D0-7BCE43EBDC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3B88-DA0B-4028-AC23-B56145EF5C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64C3-C028-46C9-979F-CD8F9A3B83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AF8A-47A8-4F9C-BF1C-F25E783710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1CAA-AB2C-4285-956E-9872D8C920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5196-FFF7-4EE3-8BB4-AD3116BEF3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65C1-CE07-4B31-ACC1-7C555480BF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8B27-FADF-4684-BE0E-976BDD6220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0277-D13F-434A-BE11-009E855D57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0536-0DBB-4098-912C-4B061AE69E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4A78-A935-4E4B-B430-8E80A14DBF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E153-E7A4-40FE-BE6A-0786A77B71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DCEC-1CE3-4A27-BDD5-3A15EC2149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1" descr="1B4PC1M})8(NRFF_8)@F$E6"/>
          <p:cNvPicPr/>
          <p:nvPr/>
        </p:nvPicPr>
        <p:blipFill>
          <a:blip r:embed="rId1"/>
          <a:stretch/>
        </p:blipFill>
        <p:spPr>
          <a:xfrm>
            <a:off x="0" y="1523880"/>
            <a:ext cx="87519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69633" descr=""/>
          <p:cNvPicPr/>
          <p:nvPr/>
        </p:nvPicPr>
        <p:blipFill>
          <a:blip r:embed="rId1"/>
          <a:stretch/>
        </p:blipFill>
        <p:spPr>
          <a:xfrm>
            <a:off x="528480" y="781200"/>
            <a:ext cx="8087040" cy="529560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4465800" cy="31932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69635" descr=""/>
          <p:cNvPicPr/>
          <p:nvPr/>
        </p:nvPicPr>
        <p:blipFill>
          <a:blip r:embed="rId3"/>
          <a:stretch/>
        </p:blipFill>
        <p:spPr>
          <a:xfrm>
            <a:off x="2138400" y="3724200"/>
            <a:ext cx="58482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8609" descr=""/>
          <p:cNvPicPr/>
          <p:nvPr/>
        </p:nvPicPr>
        <p:blipFill>
          <a:blip r:embed="rId1"/>
          <a:stretch/>
        </p:blipFill>
        <p:spPr>
          <a:xfrm>
            <a:off x="476280" y="2333520"/>
            <a:ext cx="8191440" cy="21909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684360" y="3016080"/>
            <a:ext cx="5182920" cy="3193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684360" y="3367080"/>
            <a:ext cx="5182920" cy="3189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611280" y="3726000"/>
            <a:ext cx="5182920" cy="3189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755640" y="4130640"/>
            <a:ext cx="51832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67585" descr=""/>
          <p:cNvPicPr/>
          <p:nvPr/>
        </p:nvPicPr>
        <p:blipFill>
          <a:blip r:embed="rId1"/>
          <a:stretch/>
        </p:blipFill>
        <p:spPr>
          <a:xfrm>
            <a:off x="343080" y="880920"/>
            <a:ext cx="8458200" cy="50961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8064360" cy="319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468360" y="4282920"/>
            <a:ext cx="8064360" cy="5050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395280" y="4807080"/>
            <a:ext cx="8064360" cy="3189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468360" y="5167440"/>
            <a:ext cx="8064360" cy="3189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395280" y="5545080"/>
            <a:ext cx="80643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0428" descr=""/>
          <p:cNvPicPr/>
          <p:nvPr/>
        </p:nvPicPr>
        <p:blipFill>
          <a:blip r:embed="rId1"/>
          <a:stretch/>
        </p:blipFill>
        <p:spPr>
          <a:xfrm>
            <a:off x="309600" y="743040"/>
            <a:ext cx="8524800" cy="5371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4284720" y="1969920"/>
            <a:ext cx="574560" cy="3193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4024440" y="2492280"/>
            <a:ext cx="574560" cy="3193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5003640" y="3068640"/>
            <a:ext cx="574920" cy="3189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6877080" y="3510000"/>
            <a:ext cx="719280" cy="3189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2697120" y="4282920"/>
            <a:ext cx="434880" cy="3193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2719440" y="3917880"/>
            <a:ext cx="434880" cy="3193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4500720" y="4076640"/>
            <a:ext cx="434880" cy="3193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4960800" y="4941720"/>
            <a:ext cx="216000" cy="3193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8317080" y="4941720"/>
            <a:ext cx="215640" cy="3193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5551560" y="5675400"/>
            <a:ext cx="1224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59410" descr=""/>
          <p:cNvPicPr/>
          <p:nvPr/>
        </p:nvPicPr>
        <p:blipFill>
          <a:blip r:embed="rId1"/>
          <a:stretch/>
        </p:blipFill>
        <p:spPr>
          <a:xfrm>
            <a:off x="185760" y="938160"/>
            <a:ext cx="8772480" cy="49816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7451640" y="1062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7308720" y="1647720"/>
            <a:ext cx="719280" cy="3193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4"/>
          <a:stretch/>
        </p:blipFill>
        <p:spPr>
          <a:xfrm>
            <a:off x="1184400" y="2565360"/>
            <a:ext cx="434880" cy="3189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5"/>
          <a:stretch/>
        </p:blipFill>
        <p:spPr>
          <a:xfrm>
            <a:off x="2627280" y="2565360"/>
            <a:ext cx="434880" cy="3189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6"/>
          <a:stretch/>
        </p:blipFill>
        <p:spPr>
          <a:xfrm>
            <a:off x="8172360" y="3438360"/>
            <a:ext cx="435240" cy="319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7"/>
          <a:stretch/>
        </p:blipFill>
        <p:spPr>
          <a:xfrm>
            <a:off x="8244000" y="3889440"/>
            <a:ext cx="434880" cy="3189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8"/>
          <a:stretch/>
        </p:blipFill>
        <p:spPr>
          <a:xfrm>
            <a:off x="8172360" y="4365720"/>
            <a:ext cx="435240" cy="318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9"/>
          <a:stretch/>
        </p:blipFill>
        <p:spPr>
          <a:xfrm>
            <a:off x="8172360" y="4941720"/>
            <a:ext cx="435240" cy="3193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10"/>
          <a:stretch/>
        </p:blipFill>
        <p:spPr>
          <a:xfrm>
            <a:off x="8244000" y="5516640"/>
            <a:ext cx="4348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图片 58373" descr=""/>
          <p:cNvPicPr/>
          <p:nvPr/>
        </p:nvPicPr>
        <p:blipFill>
          <a:blip r:embed="rId1"/>
          <a:stretch/>
        </p:blipFill>
        <p:spPr>
          <a:xfrm>
            <a:off x="366840" y="719280"/>
            <a:ext cx="8410320" cy="54194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3"/>
          <a:stretch/>
        </p:blipFill>
        <p:spPr>
          <a:xfrm>
            <a:off x="7380360" y="2060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4"/>
          <a:stretch/>
        </p:blipFill>
        <p:spPr>
          <a:xfrm>
            <a:off x="7740720" y="2987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5"/>
          <a:stretch/>
        </p:blipFill>
        <p:spPr>
          <a:xfrm>
            <a:off x="7164360" y="3851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6"/>
          <a:stretch/>
        </p:blipFill>
        <p:spPr>
          <a:xfrm>
            <a:off x="6227640" y="4941720"/>
            <a:ext cx="3589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图片 57352" descr=""/>
          <p:cNvPicPr/>
          <p:nvPr/>
        </p:nvPicPr>
        <p:blipFill>
          <a:blip r:embed="rId1"/>
          <a:stretch/>
        </p:blipFill>
        <p:spPr>
          <a:xfrm>
            <a:off x="642960" y="1676520"/>
            <a:ext cx="7858080" cy="3504960"/>
          </a:xfrm>
          <a:prstGeom prst="rect">
            <a:avLst/>
          </a:prstGeom>
          <a:ln w="0">
            <a:noFill/>
          </a:ln>
        </p:spPr>
      </p:pic>
      <p:pic>
        <p:nvPicPr>
          <p:cNvPr id="988" name="图片 57353" descr=""/>
          <p:cNvPicPr/>
          <p:nvPr/>
        </p:nvPicPr>
        <p:blipFill>
          <a:blip r:embed="rId2"/>
          <a:stretch/>
        </p:blipFill>
        <p:spPr>
          <a:xfrm>
            <a:off x="2400480" y="2529000"/>
            <a:ext cx="56577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图片 56324" descr=""/>
          <p:cNvPicPr/>
          <p:nvPr/>
        </p:nvPicPr>
        <p:blipFill>
          <a:blip r:embed="rId1"/>
          <a:stretch/>
        </p:blipFill>
        <p:spPr>
          <a:xfrm>
            <a:off x="309600" y="1428840"/>
            <a:ext cx="8524800" cy="4000320"/>
          </a:xfrm>
          <a:prstGeom prst="rect">
            <a:avLst/>
          </a:prstGeom>
          <a:ln w="0">
            <a:noFill/>
          </a:ln>
        </p:spPr>
      </p:pic>
      <p:pic>
        <p:nvPicPr>
          <p:cNvPr id="990" name="图片 56325" descr=""/>
          <p:cNvPicPr/>
          <p:nvPr/>
        </p:nvPicPr>
        <p:blipFill>
          <a:blip r:embed="rId2"/>
          <a:stretch/>
        </p:blipFill>
        <p:spPr>
          <a:xfrm>
            <a:off x="2386080" y="2852640"/>
            <a:ext cx="43718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图片 55300" descr=""/>
          <p:cNvPicPr/>
          <p:nvPr/>
        </p:nvPicPr>
        <p:blipFill>
          <a:blip r:embed="rId1"/>
          <a:stretch/>
        </p:blipFill>
        <p:spPr>
          <a:xfrm>
            <a:off x="480960" y="1014480"/>
            <a:ext cx="8182080" cy="482904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2159280" cy="31896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3"/>
          <a:stretch/>
        </p:blipFill>
        <p:spPr>
          <a:xfrm>
            <a:off x="826920" y="2708280"/>
            <a:ext cx="2159280" cy="31896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4"/>
          <a:stretch/>
        </p:blipFill>
        <p:spPr>
          <a:xfrm>
            <a:off x="3708360" y="2060640"/>
            <a:ext cx="2158920" cy="50472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5"/>
          <a:stretch/>
        </p:blipFill>
        <p:spPr>
          <a:xfrm>
            <a:off x="3780000" y="2637000"/>
            <a:ext cx="2158920" cy="50472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6"/>
          <a:stretch/>
        </p:blipFill>
        <p:spPr>
          <a:xfrm>
            <a:off x="6227640" y="2060640"/>
            <a:ext cx="2159280" cy="50472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7"/>
          <a:stretch/>
        </p:blipFill>
        <p:spPr>
          <a:xfrm>
            <a:off x="6443640" y="2637000"/>
            <a:ext cx="2158920" cy="50472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" descr=""/>
          <p:cNvPicPr/>
          <p:nvPr/>
        </p:nvPicPr>
        <p:blipFill>
          <a:blip r:embed="rId8"/>
          <a:stretch/>
        </p:blipFill>
        <p:spPr>
          <a:xfrm>
            <a:off x="1187280" y="4633920"/>
            <a:ext cx="2159280" cy="31896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9"/>
          <a:stretch/>
        </p:blipFill>
        <p:spPr>
          <a:xfrm>
            <a:off x="971640" y="5084640"/>
            <a:ext cx="2520720" cy="31932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10"/>
          <a:stretch/>
        </p:blipFill>
        <p:spPr>
          <a:xfrm>
            <a:off x="1116000" y="5445000"/>
            <a:ext cx="2521080" cy="31932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" descr=""/>
          <p:cNvPicPr/>
          <p:nvPr/>
        </p:nvPicPr>
        <p:blipFill>
          <a:blip r:embed="rId11"/>
          <a:stretch/>
        </p:blipFill>
        <p:spPr>
          <a:xfrm>
            <a:off x="5292720" y="4508640"/>
            <a:ext cx="2521080" cy="50472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" descr=""/>
          <p:cNvPicPr/>
          <p:nvPr/>
        </p:nvPicPr>
        <p:blipFill>
          <a:blip r:embed="rId12"/>
          <a:stretch/>
        </p:blipFill>
        <p:spPr>
          <a:xfrm>
            <a:off x="5292720" y="5084640"/>
            <a:ext cx="2521080" cy="31932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" descr=""/>
          <p:cNvPicPr/>
          <p:nvPr/>
        </p:nvPicPr>
        <p:blipFill>
          <a:blip r:embed="rId13"/>
          <a:stretch/>
        </p:blipFill>
        <p:spPr>
          <a:xfrm>
            <a:off x="5580000" y="5445000"/>
            <a:ext cx="25210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图片 54276" descr=""/>
          <p:cNvPicPr/>
          <p:nvPr/>
        </p:nvPicPr>
        <p:blipFill>
          <a:blip r:embed="rId1"/>
          <a:stretch/>
        </p:blipFill>
        <p:spPr>
          <a:xfrm>
            <a:off x="195120" y="971640"/>
            <a:ext cx="8753760" cy="491472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" descr=""/>
          <p:cNvPicPr/>
          <p:nvPr/>
        </p:nvPicPr>
        <p:blipFill>
          <a:blip r:embed="rId2"/>
          <a:stretch/>
        </p:blipFill>
        <p:spPr>
          <a:xfrm>
            <a:off x="826920" y="2031840"/>
            <a:ext cx="7777440" cy="31932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" descr=""/>
          <p:cNvPicPr/>
          <p:nvPr/>
        </p:nvPicPr>
        <p:blipFill>
          <a:blip r:embed="rId3"/>
          <a:stretch/>
        </p:blipFill>
        <p:spPr>
          <a:xfrm>
            <a:off x="611280" y="2378160"/>
            <a:ext cx="7777080" cy="3189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4"/>
          <a:stretch/>
        </p:blipFill>
        <p:spPr>
          <a:xfrm>
            <a:off x="611280" y="2727360"/>
            <a:ext cx="7993080" cy="3189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5"/>
          <a:stretch/>
        </p:blipFill>
        <p:spPr>
          <a:xfrm>
            <a:off x="620640" y="3068640"/>
            <a:ext cx="7993080" cy="3189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6"/>
          <a:stretch/>
        </p:blipFill>
        <p:spPr>
          <a:xfrm>
            <a:off x="539640" y="4149720"/>
            <a:ext cx="7993080" cy="3189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7"/>
          <a:stretch/>
        </p:blipFill>
        <p:spPr>
          <a:xfrm>
            <a:off x="826920" y="4437000"/>
            <a:ext cx="7993080" cy="3193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8"/>
          <a:stretch/>
        </p:blipFill>
        <p:spPr>
          <a:xfrm>
            <a:off x="684360" y="4869000"/>
            <a:ext cx="7993080" cy="3189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9"/>
          <a:stretch/>
        </p:blipFill>
        <p:spPr>
          <a:xfrm>
            <a:off x="684360" y="5219640"/>
            <a:ext cx="7993080" cy="3193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10"/>
          <a:stretch/>
        </p:blipFill>
        <p:spPr>
          <a:xfrm>
            <a:off x="826920" y="5580000"/>
            <a:ext cx="79930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52231" descr=""/>
          <p:cNvPicPr/>
          <p:nvPr/>
        </p:nvPicPr>
        <p:blipFill>
          <a:blip r:embed="rId1"/>
          <a:stretch/>
        </p:blipFill>
        <p:spPr>
          <a:xfrm>
            <a:off x="361800" y="2033640"/>
            <a:ext cx="8420400" cy="27907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395280" y="2708280"/>
            <a:ext cx="446400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468360" y="3097080"/>
            <a:ext cx="7991280" cy="48600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468360" y="3645000"/>
            <a:ext cx="4464000" cy="3189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468360" y="4005360"/>
            <a:ext cx="7991280" cy="3189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6"/>
          <a:stretch/>
        </p:blipFill>
        <p:spPr>
          <a:xfrm>
            <a:off x="539640" y="4375080"/>
            <a:ext cx="799164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3T07:55:55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